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798-7531-40DF-8CCE-3E68EA54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97E4-BE92-4DD5-9C47-62B920D7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EC1-3107-4136-8AAD-B1B10074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9CF-45F2-4778-A6A0-B43C6B3E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1BD3-3639-4CCB-8D97-11EEE23C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E9A0-54DB-416C-B71C-535DF322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5369-3B2C-4D8F-9C77-429EE04C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6B8-D21B-422C-9760-38DFB920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546-8BD0-4979-B894-4F558247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4449-2BE7-4BFB-8FA1-8732612D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E473-4581-49E4-88FC-214F5D88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E9CC-1172-45F0-80FF-D3E8A69C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293B-22FC-4E8C-9B27-A79E3F0B5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533520"/>
            <a:ext cx="9144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 Black"/>
                <a:ea typeface="Times New Roman"/>
              </a:rPr>
              <a:t>RED CLAY CONSOLIDATED SCHOOL DISTRI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 Black"/>
                <a:ea typeface="Arial Unicode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Emergency Response Guid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434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RedClay" descr=""/>
          <p:cNvPicPr/>
          <p:nvPr/>
        </p:nvPicPr>
        <p:blipFill>
          <a:blip r:embed="rId1"/>
          <a:stretch/>
        </p:blipFill>
        <p:spPr>
          <a:xfrm>
            <a:off x="3581280" y="31240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5791320"/>
            <a:ext cx="84582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     _____________  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cher’s name                                   Room number                              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533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cuation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295280"/>
            <a:ext cx="7086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cher’s name_________________________________   extension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om number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981080"/>
            <a:ext cx="85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describe escape routes and outside meeting areas.  Indicate any alternate routes for physically challenged per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0481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5812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47242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1148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2578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7913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63244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Evacuation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533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ergency Equipment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14479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rite the location of each of the following.  If the item is not needed, write N/A (not applic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828800"/>
            <a:ext cx="8610480" cy="65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infectants: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ergency shower: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it: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yewash: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alarm: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blanket: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extinguisher: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ggles: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 aprons: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ill kits and clean-up materials: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ephone/intercom: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63244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Emergency Equipment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5335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m #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533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447920"/>
            <a:ext cx="86104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e, police, ambulance: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9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rs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name and extension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cipa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name and extension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chair/team leader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om number/extension: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rict Science Specialis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dward McGrath         (302) 993-23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ckinson High School, Room A105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: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6094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m #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63244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399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Medical Emer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9480"/>
            <a:ext cx="9144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l Emer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IN CALM!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47920"/>
            <a:ext cx="541008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Nurse’s office _________  or Main office _______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write extension in bla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 the following inform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jured person’s name and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our name, location, and telephon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HANG U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Remain on the line until the dispatcher disconn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5880" y="990720"/>
            <a:ext cx="27432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administer first aid; th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urse’s responsibility.  If a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reatening situation exists w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iting for medical personnel is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sible, only administer life s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vention if you are prop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ined and if you will not be pla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t risk of inj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 circumstances permit, pro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azardous information about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ffending substances (e.g. na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, MSDS) to me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ersonn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09880"/>
            <a:ext cx="5257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the injured par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intain crowd contro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move the injured person  unless there is danger of further inj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also applies if the person is conscious and able to  move wit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sistance.  Keep the person warm and continually reassu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injury was the result of chemical or biological contamination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ppropriate procedures as outlined below under “chemical    spills”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iological spil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990720"/>
            <a:ext cx="0" cy="51051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09480"/>
            <a:ext cx="9144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IN CALM!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75248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752480"/>
            <a:ext cx="39625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in Contact with Chemical or Biological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contaminated 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mica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ood affected skin with copious am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water for at least 15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ologic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Wash affected area with soap and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everal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injured person to the nurse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ll relevant information about off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incident to building principal.  If injured p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student, call parent/guard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752480"/>
            <a:ext cx="38862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ye Contact with Chemical or Biological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od eyes with copious am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water from eyewash for at least 15 minutes. 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e a portable eyewash squeeze bot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on the nurse immediately to the injured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ll relevant information about off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incident to building principal.  If inj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a student, call parent/guard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952880"/>
            <a:ext cx="39625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or Puncture Wounds and C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 injury with soap and water for several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injured party to the nurse.  Do not cover w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it has been seen by medical personnel.  I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ed party is a student, call parent/guard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4267080"/>
            <a:ext cx="358164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or Burns (skin is not brok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nse affected area with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ater (not ice)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injured party to the nurse.  If inj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a student, call parent/guard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burn has broken the skin, treat as mi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re wound or c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990720"/>
            <a:ext cx="0" cy="51051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399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Personal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09480"/>
            <a:ext cx="9144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Laboratory Inc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IN CALM!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600200"/>
            <a:ext cx="8458200" cy="32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cuate the immediate area of the inci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y the main office and your department chair or team leader.  If warranted, activate the fire al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any injuries as indicated above.  Meet with nurse or emergency personnel to furnish all relevant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emergency personnel with MSDS of chemical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y members’ responsibility in an emergency is to the students.  Supervise all students.  Teachers at pl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assist other teachers and the adminis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incident to building principal.  If injured person is a student, call parent/guard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pecific incidents, see the appropriate headings be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3760" y="6400800"/>
            <a:ext cx="42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ritical Laboratory Inc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609480"/>
            <a:ext cx="9144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logical Laboratory Inc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IN CALM!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447920"/>
            <a:ext cx="8915400" cy="38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robiological Culture Sp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area of the spill.  Students should move away from the general area of the spill to confine the contaminated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hould leave any belongings in the area of cont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 personal protective equipment (PPE) as needed before decont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tationary objects (e.g. desks, benches) that were contaminated should be flooded with 10 % bleach solution for 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utes, then wiped clean with disposable paper towels (not a sponge or mop).  Paper towels should be discard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hazardous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minated clothing must be removed from the wearer and sterilized by autoclaving (121º C and 15 psi for 15 minu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being retur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minated skin should be washed several minutes with soap and water.  If injury has occurred, summon the n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glass should be disposed of in a red biohazard bag, not the conventional sharps bo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the spill to the department chair, the nurse, and the principal.  If injury occurred to a student, also notify the parent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31760" y="6400800"/>
            <a:ext cx="46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Biological Laboratory Inc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609480"/>
            <a:ext cx="9144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Laboratory Inc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IN CALM!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00200"/>
            <a:ext cx="8915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mical Sp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area of the spill.  Students should move away from the general area of the spill to confine the contaminated area. 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essary, evacuate the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material is flammable, turn off heat sources and gas jets.  Increase ventilation by activating fume hoods or o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if possible and safe to do 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 personal protective equipment (PPE) as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pill is manageable, use the appropriate cleanup and disposal methods as outlined by the MSDS.  If this is not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size of the spill, the hazardous nature of the chemicals, or other reasons, report the incident to the Main Offic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ing what resources are needed to clean up the spill.  Provide emergency personnel with the MSDS of the sp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yone was injured as a result of the spill, summon the nurse and provide the MSDS.  If the injured party was a stud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y the parent/guard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y the department chair, the principal, and the Secondary Science Specia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1240" y="6400800"/>
            <a:ext cx="45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mical Laboratory Inc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0948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IN CALM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676520"/>
            <a:ext cx="8991720" cy="19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Procedur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l the fire alarm and assist with evacuating the school.  Notify the principal of relevant detai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l 911 from an outside telephone line.  Provide the fire location, what happened, details of any injuries, and your na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and phon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ossible, confine the fire by closing the hood sash or closing doors and windows.  If this is an electrical fire, disconnect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electricity if possible.  However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ere is any question of whether these measures can be done safely, do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tempt them.  Evacu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886200"/>
            <a:ext cx="91440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thing on fi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earer should “stop, drop, and roll” to extinguish flames.  If possible, flames should be smothered with a fire blan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fected body parts should be drenched with cool water from a faucet or (preferred) a safety sh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jured person must be examined by licensed medical personnel as soon as possible, even if no injury or discomfor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the incident to the principal, the nurse, and the Secondary Science Specia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6324480"/>
            <a:ext cx="350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6324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228600"/>
            <a:ext cx="723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533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zardous Wast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066680"/>
            <a:ext cx="82296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ining of Personn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ersonnel (students, staff, faculty) may not work in unsupervised positions until they have received hazard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nformation trai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will receive annual hazardous chemical information training.  The Secondary Science Spe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maintain records of current trai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3048120"/>
            <a:ext cx="82296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zardous Was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azardous waste containers must be labeled with the contents.  No abbreviations, trade names, or formu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be used.  If possible, a brief description of the hazardous nature should be stated (e.g. flammable, corros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zardous waste containers should be tightly closed except when waste is being added.  Containers should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d away from stu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zardous waste containers must be removed within 90 days of being fill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zardous waste must be disposed of as indicated by the MSDS.  Teachers should take care that incompat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materials are disposed of separately to prevent a dangerous combination.  If hazardous waste must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osed of professionally, contact the Secondary Science Specialist to ar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63244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Hazardous Wast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3b3"/>
            </a:gs>
            <a:gs pos="50000">
              <a:srgbClr val="ffffff"/>
            </a:gs>
            <a:gs pos="100000">
              <a:srgbClr val="ffb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533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143000"/>
            <a:ext cx="792468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cate below any special procedures or considerations that are specific for this room.  Be sure to indicate the names and contact information of relevant resource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om number:______________         School: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9718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05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038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52578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8672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63244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Special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5:51:09Z</dcterms:created>
  <dc:creator>Administrator</dc:creator>
  <dc:description/>
  <dc:language>en-US</dc:language>
  <cp:lastModifiedBy>Administrator</cp:lastModifiedBy>
  <dcterms:modified xsi:type="dcterms:W3CDTF">2005-04-28T13:01:07Z</dcterms:modified>
  <cp:revision>15</cp:revision>
  <dc:subject/>
  <dc:title>PowerPoint Presentation</dc:title>
</cp:coreProperties>
</file>